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91CE-AD56-431D-9750-038C63B1DE3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420-A729-4479-AA89-B5931C65D7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AE95-0CE1-4D5C-98C8-55030F7799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104-68AC-464D-83D6-7FF1B9C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26A-CA37-4513-B989-7F4E70C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A4A-7471-4EE3-BEC5-641B7F4A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CBC-A997-49AD-AF26-38CDE18E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323-3629-4A8A-B407-73FB12FD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D879-FA00-463B-A848-9B1041C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5E0B-0916-4A71-93E3-34F1BF6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852-FD59-4262-A809-22112315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5721-1E1D-434F-8B0D-65D1E11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DA6F-5505-44DA-B510-37041124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B3A-7B8E-4947-A4C6-0588245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844-0247-432C-A792-6166E84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776-399C-4ED8-8E4A-43EECD7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DED-5C71-4631-B8C5-D90BAE9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550-7EC6-40AF-87C6-9784F057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6883-7285-401C-BA5E-C3233AE4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45DB-D5D6-4F8C-853F-87518246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B1E-8B15-4769-BDC8-9BE89486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367-E38C-4B7A-908B-EB26353B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894-DBF0-459E-9B04-C5F4BF2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FB7-B6CB-4174-B67D-6AEAA59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6E2-7230-450A-820F-137C770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70D-B78F-4631-BCFB-15766E5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41C-ED2F-426D-8804-9BFE61D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6B4-0E8A-4437-9075-0174EB8ADDD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9054-DF96-485F-8880-B8B5CB68123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artbiznes.pl/index.php/obrazy-w-przestworzach-czyli-o-micie-latania-w-sztuce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chimie-physique.weebly.com/antoine-laurent-lavoisier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pl/url?sa=i&amp;rct=j&amp;q=&amp;esrc=s&amp;source=images&amp;cd=&amp;cad=rja&amp;docid=mirG48mGOreu-M&amp;tbnid=5raNw75YgBJUPM:&amp;ved=0CAQQjB0&amp;url=http%3A%2F%2Fwww.tapeta-kwiaty-niebieskie-motyle-olte.na-telefon.org%2F&amp;ei=rAgxUZiYIYmr4ASzjIC4CA&amp;bvm=bv.43148975,d.bGE&amp;psig=AFQjCNEF59WcMGnNv4-BopKq7WEfXFOLPw&amp;ust=1362254371445238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kopalniawiedzy.pl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historion.pl/rewolucja-przemyslowa-w-xviii-wieku-historia/4/" TargetMode="External"/><Relationship Id="rId4" Type="http://schemas.openxmlformats.org/officeDocument/2006/relationships/hyperlink" Target="http://www.primus.com.pl/ng9/strony%20uczniow/mateusz_borowski_wynalazcy/James_Watt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ikipedia.p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ocities.com/rationalargumentator/John_Locke.jpg&amp;imgrefurl=http://www.geocities.com/rationalargumentator/lockeandiscourse.html&amp;h=867&amp;w=650&amp;sz=41&amp;hl=pl&amp;start=7&amp;um=1&amp;tbnid=xIT1rXzizuKCKM:&amp;tbnh=145&amp;tbnw=109&amp;prev=/images%3Fq%3Dlocke%26svnum%3D10%26um%3D1%26hl%3Dpl%26rlz%3D1T4SUNA_en___PL210%26sa%3DN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świecen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j0429815[1]"/>
          <p:cNvPicPr/>
          <p:nvPr/>
        </p:nvPicPr>
        <p:blipFill>
          <a:blip r:embed="rId1"/>
          <a:stretch/>
        </p:blipFill>
        <p:spPr>
          <a:xfrm>
            <a:off x="0" y="2682720"/>
            <a:ext cx="2313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7640" y="333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k XVIII okazał się przełom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ież, jeśli chodzi o bad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one w naukach ścisłych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rodniczych. Dokonano odkry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lu pierwiastków i pr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emicznych. Konstruow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rzędzia, które ułatwiał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łowiekowi poznawanie świ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krywano zjawiska przyrodnicz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izjologiczne oraz zasady mechan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aerodynamiki – dzięki temu odby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ę na przykład pierwszy lot balon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Obraz 3" descr="http://www.artbiznes.pl/wp-content/uploads/2012/02/Montgolfier_brothers_flight.jpg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460044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5292720" y="50911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artbiznes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annes Kepler – Trzy prawa Keplera, prawo ruchu pla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Symbol zastępczy zawartości 3" descr="http://www.matematyka.wroc.pl/system/files/u12/roz/Kepler05.gif"/>
          <p:cNvPicPr/>
          <p:nvPr/>
        </p:nvPicPr>
        <p:blipFill>
          <a:blip r:embed="rId1"/>
          <a:stretch/>
        </p:blipFill>
        <p:spPr>
          <a:xfrm>
            <a:off x="1547640" y="2276640"/>
            <a:ext cx="410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Antoine Lavoisier – ojciec nowoczesnej chemii,spalanie tlen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rc_mi" descr="http://chimie-physique.weebly.com/uploads/9/4/5/4/9454150/3391559_orig.jpg"/>
          <p:cNvPicPr/>
          <p:nvPr/>
        </p:nvPicPr>
        <p:blipFill>
          <a:blip r:embed="rId1"/>
          <a:stretch/>
        </p:blipFill>
        <p:spPr>
          <a:xfrm>
            <a:off x="684360" y="227664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5"/>
          <p:cNvSpPr/>
          <p:nvPr/>
        </p:nvSpPr>
        <p:spPr>
          <a:xfrm>
            <a:off x="5292720" y="32446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imie-physique.weebly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476280"/>
            <a:ext cx="7680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Karol Linneusz –systematyka rośli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ymbol zastępczy zawartości 3" descr="http://www.tapeta-kwiaty-niebieskie-motyle-olte.na-telefon.org/tapety/kwiaty-niebieskie-motyle-olte.jpeg"/>
          <p:cNvPicPr/>
          <p:nvPr/>
        </p:nvPicPr>
        <p:blipFill>
          <a:blip r:embed="rId1"/>
          <a:stretch/>
        </p:blipFill>
        <p:spPr>
          <a:xfrm>
            <a:off x="1042920" y="1557360"/>
            <a:ext cx="4035600" cy="439272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4"/>
          <p:cNvSpPr/>
          <p:nvPr/>
        </p:nvSpPr>
        <p:spPr>
          <a:xfrm>
            <a:off x="900000" y="5950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apeta-kwiaty-niebieskie-motyle-olte.na-telefon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5" descr="http://kopalniawiedzy.pl/media/lib/8/1179917266_957137-418e62c7b2ed7be115bc6efcc612f9b6.jpeg"/>
          <p:cNvPicPr/>
          <p:nvPr/>
        </p:nvPicPr>
        <p:blipFill>
          <a:blip r:embed="rId3"/>
          <a:stretch/>
        </p:blipFill>
        <p:spPr>
          <a:xfrm>
            <a:off x="5673600" y="1557360"/>
            <a:ext cx="2248200" cy="2705040"/>
          </a:xfrm>
          <a:prstGeom prst="rect">
            <a:avLst/>
          </a:prstGeom>
          <a:ln w="0">
            <a:noFill/>
          </a:ln>
        </p:spPr>
      </p:pic>
      <p:sp>
        <p:nvSpPr>
          <p:cNvPr id="142" name="Prostokąt 6"/>
          <p:cNvSpPr/>
          <p:nvPr/>
        </p:nvSpPr>
        <p:spPr>
          <a:xfrm>
            <a:off x="5364000" y="42624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kopalniawiedzy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 Karol Linneus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76802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Tunga"/>
              </a:rPr>
              <a:t>Największym dokonaniem XVIII w., które zostało na masową skalę wykorzystane w kolejnym stuleciu, było skonstruowanie maszyny parowej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Symbol zastępczy zawartości 3" descr="http://historion.pl/wp-content/uploads/2012/06/Silnik-parowy-Watta.jpg"/>
          <p:cNvPicPr/>
          <p:nvPr/>
        </p:nvPicPr>
        <p:blipFill>
          <a:blip r:embed="rId1"/>
          <a:stretch/>
        </p:blipFill>
        <p:spPr>
          <a:xfrm>
            <a:off x="539640" y="1844640"/>
            <a:ext cx="439272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Obraz 5" descr="http://www.primus.com.pl/ng9/strony%20uczniow/mateusz_borowski_wynalazcy/james_watt.jpg"/>
          <p:cNvPicPr/>
          <p:nvPr/>
        </p:nvPicPr>
        <p:blipFill>
          <a:blip r:embed="rId2"/>
          <a:stretch/>
        </p:blipFill>
        <p:spPr>
          <a:xfrm>
            <a:off x="5292720" y="1312920"/>
            <a:ext cx="3324240" cy="4600440"/>
          </a:xfrm>
          <a:prstGeom prst="rect">
            <a:avLst/>
          </a:prstGeom>
          <a:ln w="0">
            <a:noFill/>
          </a:ln>
        </p:spPr>
      </p:pic>
      <p:sp>
        <p:nvSpPr>
          <p:cNvPr id="146" name="Prostokąt 7"/>
          <p:cNvSpPr/>
          <p:nvPr/>
        </p:nvSpPr>
        <p:spPr>
          <a:xfrm>
            <a:off x="75564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istorion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8"/>
          <p:cNvSpPr/>
          <p:nvPr/>
        </p:nvSpPr>
        <p:spPr>
          <a:xfrm>
            <a:off x="5292720" y="59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es Wat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imus.com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2080" y="765000"/>
            <a:ext cx="40035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AJĄCE  CZÓŁENK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733 roku gręplar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oh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ł latające czółenko, któ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elokrotniło wydajność warszt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kiego. Prześladowany prze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zy musiał opuścić Anglię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chronienie znalazł we Francji, gdz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arł w zupełnej nędzy. J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ek został rozpowszechnio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oło 1760 roku w przemyś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łókienniczym, zwłaszc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wełnia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raz 3" descr="Plik:John Kay2.JPG"/>
          <p:cNvPicPr/>
          <p:nvPr/>
        </p:nvPicPr>
        <p:blipFill>
          <a:blip r:embed="rId1"/>
          <a:stretch/>
        </p:blipFill>
        <p:spPr>
          <a:xfrm>
            <a:off x="6588000" y="3753000"/>
            <a:ext cx="158436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4" descr="http://wynalazki.slomniki.pl/images/stories/duze/kay1.jpg"/>
          <p:cNvPicPr/>
          <p:nvPr/>
        </p:nvPicPr>
        <p:blipFill>
          <a:blip r:embed="rId2"/>
          <a:stretch/>
        </p:blipFill>
        <p:spPr>
          <a:xfrm>
            <a:off x="4356000" y="1125360"/>
            <a:ext cx="4686480" cy="161928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5"/>
          <p:cNvSpPr/>
          <p:nvPr/>
        </p:nvSpPr>
        <p:spPr>
          <a:xfrm>
            <a:off x="4500720" y="3105000"/>
            <a:ext cx="45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ynalazki.slomniki.pl/index.php/wynalazcy/77-k/864-kay-joh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2"/>
          <p:cNvSpPr/>
          <p:nvPr/>
        </p:nvSpPr>
        <p:spPr>
          <a:xfrm>
            <a:off x="3635280" y="4365720"/>
            <a:ext cx="234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hn Kay  www.wikipedia 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ędza Joasia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Obraz 3" descr="Spinning Jenny 300x247 Rewolucja przemys&amp;lstrok;owa w XVIII wieku   historia"/>
          <p:cNvPicPr/>
          <p:nvPr/>
        </p:nvPicPr>
        <p:blipFill>
          <a:blip r:embed="rId1"/>
          <a:stretch/>
        </p:blipFill>
        <p:spPr>
          <a:xfrm>
            <a:off x="755640" y="126828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4"/>
          <p:cNvSpPr/>
          <p:nvPr/>
        </p:nvSpPr>
        <p:spPr>
          <a:xfrm>
            <a:off x="4643280" y="2550960"/>
            <a:ext cx="424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767 roku przez cieślę i tkacza z Lancashire, Jamesa Hargreavesa.  Była to słynna „przędąca Joasia” (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pinning Jen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 mechaniczna przędzarka wózkowa. Ruchem korby wprowadzało się  w ruch osiem wrzecio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1154160"/>
            <a:ext cx="46800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jednym 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ch uczonych XVIII wieku. 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752 roku podczas burzy wypuścił latawi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oczepionym metalowym kluczem,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ępnie wykazać w badaniach, że kluc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stał naładowany elektrycznie - dowiód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m samym elektrycznej natury błyskawic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rótce po tym wynalazł piorunochr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jący za zadanie chronić ochron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ynków podczas burz.  Był on twórc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cznych wynalazków, m.in.: fote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janego, organów kieliszkowy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densatora pła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Benjamin Frankl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raz 3" descr="http://energia.toowo.pl/z_pioruny/piorunochron.jpg"/>
          <p:cNvPicPr/>
          <p:nvPr/>
        </p:nvPicPr>
        <p:blipFill>
          <a:blip r:embed="rId1"/>
          <a:stretch/>
        </p:blipFill>
        <p:spPr>
          <a:xfrm>
            <a:off x="4859280" y="115416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160" name="Prostokąt 4"/>
          <p:cNvSpPr/>
          <p:nvPr/>
        </p:nvSpPr>
        <p:spPr>
          <a:xfrm>
            <a:off x="5003640" y="422100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dulandia.pl/edukacja/1,124766,6525480,Benjamin_Franklin.html#ixzz2MTKqLed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unga"/>
              </a:rPr>
              <a:t>Symbolem dorobku naukowego XVIII w. stała się Wielka Encykloped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Symbol zastępczy zawartości 3" descr="https://encrypted-tbn0.gstatic.com/images?q=tbn:ANd9GcRaWon-he6PWjEqFAUl6rHK0PXAyeRLwWd0FhglhSl3GLDpvkcy"/>
          <p:cNvPicPr/>
          <p:nvPr/>
        </p:nvPicPr>
        <p:blipFill>
          <a:blip r:embed="rId1"/>
          <a:stretch/>
        </p:blipFill>
        <p:spPr>
          <a:xfrm>
            <a:off x="250920" y="1731960"/>
            <a:ext cx="482580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4"/>
          <p:cNvSpPr/>
          <p:nvPr/>
        </p:nvSpPr>
        <p:spPr>
          <a:xfrm>
            <a:off x="1619280" y="52704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ww.wiw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rc_mi" descr="http://2.bp.blogspot.com/_XA9l0Gp5D_A/SedrBKtc2SI/AAAAAAAAAHg/EFQkxLYCmLk/s320/encyklopedia+francuska.jpg"/>
          <p:cNvPicPr/>
          <p:nvPr/>
        </p:nvPicPr>
        <p:blipFill>
          <a:blip r:embed="rId2"/>
          <a:stretch/>
        </p:blipFill>
        <p:spPr>
          <a:xfrm>
            <a:off x="5292720" y="1916280"/>
            <a:ext cx="3191040" cy="277488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6"/>
          <p:cNvSpPr/>
          <p:nvPr/>
        </p:nvSpPr>
        <p:spPr>
          <a:xfrm>
            <a:off x="4140360" y="5454720"/>
            <a:ext cx="417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projektoswiecenie2009.blogspot.com/2009/04/powiastka-filozoficzna_19.html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http://gifyjustinbiebermichaeljacksoniinne.blox.pl/resource/mediumkbml6m55493ecfbe1da9552923.jpg"/>
          <p:cNvPicPr/>
          <p:nvPr/>
        </p:nvPicPr>
        <p:blipFill>
          <a:blip r:embed="rId1"/>
          <a:stretch/>
        </p:blipFill>
        <p:spPr>
          <a:xfrm>
            <a:off x="665280" y="29242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397400" y="17316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7451640" y="4361040"/>
            <a:ext cx="1135080" cy="154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39640" y="836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900000" y="76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"wiek rozumu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580000" y="3789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11280" y="42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"wiek filozofów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1"/>
          <p:cNvSpPr/>
          <p:nvPr/>
        </p:nvSpPr>
        <p:spPr>
          <a:xfrm>
            <a:off x="324000" y="1700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świecenie 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rąd intelektualny, który w XVIII wieku zdominował Europę. Ruch intelektualny oparty na krytyce ustalonych poglądów i postaw, popierający oświatę , tolerancję religijną prawa naturalne .  Oświecenie hołd dla rozum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oświecenia czerpała z dorobku F.Bacona i T.Hobbsa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0920" y="2421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IECZNOŚĆ REFORMY WIEDZY i WIARA W POSTĘ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6080" y="21286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ranciszek Bac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bacon"/>
          <p:cNvPicPr/>
          <p:nvPr/>
        </p:nvPicPr>
        <p:blipFill>
          <a:blip r:embed="rId1"/>
          <a:stretch/>
        </p:blipFill>
        <p:spPr>
          <a:xfrm>
            <a:off x="5724360" y="2860560"/>
            <a:ext cx="262116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ytycy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acjonalizm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mpiryzm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Filozofi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goya2"/>
          <p:cNvPicPr/>
          <p:nvPr/>
        </p:nvPicPr>
        <p:blipFill>
          <a:blip r:embed="rId1"/>
          <a:stretch/>
        </p:blipFill>
        <p:spPr>
          <a:xfrm>
            <a:off x="395280" y="1628640"/>
            <a:ext cx="30243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</a:rPr>
              <a:t>Racjonalizm – rozum jest najważniejsz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211640" y="33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211640" y="285264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Gdy rozum śpi budzą się upiory 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1"/>
          <p:cNvSpPr/>
          <p:nvPr/>
        </p:nvSpPr>
        <p:spPr>
          <a:xfrm>
            <a:off x="3708360" y="4581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pedia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dy rozum śpi budzą się demo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Francisco Goya, pomiędzy 1797 a 1798 r.Museo del Grabado de Go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2440" y="1463400"/>
            <a:ext cx="479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szystka wiedza pochodzi z doświadczenia. Doświadczenie jest produktem rozumu„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mmanuel K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ttp://www.theowinter.com/2011/11/08/idealist-vs-materialist-ethics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empiryzm –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najważniejsze w poznawaniu jest doświadczen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http://www.theowinter.com/wp-content/uploads/2011/11/kant.jpg"/>
          <p:cNvPicPr/>
          <p:nvPr/>
        </p:nvPicPr>
        <p:blipFill>
          <a:blip r:embed="rId1"/>
          <a:stretch/>
        </p:blipFill>
        <p:spPr>
          <a:xfrm>
            <a:off x="5148360" y="148428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f81bd"/>
                </a:solidFill>
                <a:latin typeface="Calibri"/>
                <a:ea typeface="Tunga"/>
              </a:rPr>
              <a:t>John Loc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ohn_Loc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89000"/>
            <a:ext cx="232740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ozmiar: 58937 bajtów"/>
          <p:cNvPicPr/>
          <p:nvPr/>
        </p:nvPicPr>
        <p:blipFill>
          <a:blip r:embed="rId3"/>
          <a:stretch/>
        </p:blipFill>
        <p:spPr>
          <a:xfrm>
            <a:off x="179280" y="3284640"/>
            <a:ext cx="874404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Obraz 7" descr="http://1.bp.blogspot.com/_1PcngHQ9iV0/SrkwiGtxRMI/AAAAAAAAB6M/wsvTfKh1tdg/s320/1217797_open_book_.jpg"/>
          <p:cNvPicPr/>
          <p:nvPr/>
        </p:nvPicPr>
        <p:blipFill>
          <a:blip r:embed="rId4"/>
          <a:stretch/>
        </p:blipFill>
        <p:spPr>
          <a:xfrm>
            <a:off x="539640" y="1208160"/>
            <a:ext cx="28576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owożytne zasady ustrojowe. Krytyka despotyzmu i feudalizmu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Symbol zastępczy zawartości 3" descr="http://upload.wikimedia.org/wikipedia/commons/thumb/d/de/Locke_treatises_of_government_page.jpg/220px-Locke_treatises_of_government_page.jpg"/>
          <p:cNvPicPr/>
          <p:nvPr/>
        </p:nvPicPr>
        <p:blipFill>
          <a:blip r:embed="rId1"/>
          <a:stretch/>
        </p:blipFill>
        <p:spPr>
          <a:xfrm>
            <a:off x="468360" y="1844640"/>
            <a:ext cx="2793960" cy="42800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4"/>
          <p:cNvSpPr/>
          <p:nvPr/>
        </p:nvSpPr>
        <p:spPr>
          <a:xfrm>
            <a:off x="3203640" y="1484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 powstaje w wyniku umowy społecznej J.J.Roussoue  :” Umowa społecz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.Locke „  Dwa traktaty o rządze „ – teoria demok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20602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O duchu praw” (1748)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9864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  <a:ea typeface="Tunga"/>
              </a:rPr>
              <a:t>Monteskiusz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onteskiusz"/>
          <p:cNvPicPr/>
          <p:nvPr/>
        </p:nvPicPr>
        <p:blipFill>
          <a:blip r:embed="rId1"/>
          <a:stretch/>
        </p:blipFill>
        <p:spPr>
          <a:xfrm>
            <a:off x="6516720" y="189000"/>
            <a:ext cx="19051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7" descr="https://edukator.pl/pix/users/images/jj_rousseau.jpg"/>
          <p:cNvPicPr/>
          <p:nvPr/>
        </p:nvPicPr>
        <p:blipFill>
          <a:blip r:embed="rId2"/>
          <a:stretch/>
        </p:blipFill>
        <p:spPr>
          <a:xfrm>
            <a:off x="2268360" y="335772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0:23:26Z</dcterms:modified>
  <cp:revision>10</cp:revision>
  <dc:subject/>
  <dc:title>Slajd 1</dc:title>
</cp:coreProperties>
</file>